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A10AE-0102-47AA-89C5-78CED966E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AFA0A-D92D-4039-8B1F-A7BB015B5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5EF2A-F8B2-447D-9460-3240ECE9D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D5E48-5136-4ECA-B1E3-100FC926E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431F2-AB18-4DB8-A722-9150BA3F5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3118E-689F-4EC3-A46A-998AE8493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CC68D-CAE7-4AFC-8871-0D50594FE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4E33A-9932-40C1-9F58-6BA6F0B6B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4B56A-55B2-4ACC-B9E3-D36A4D4DC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09777-EF73-453C-8BF6-DC4AB0259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C41CE-358E-46B7-9721-908016BDF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4BB9D-9B1B-4813-B830-9B43E8A59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2E3B4-A835-46C7-81FC-A95391AA3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A9D41-0B34-46F1-96C1-56AB081B0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E177A-B778-477F-92F3-0BDFFE1DC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E6E861-DBAB-4FEC-9B27-8E9C167240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86BC80-C848-439A-B248-B4A89D31F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11864-9262-4E7B-8547-22EEFED95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B7B67-B2FC-493E-BF4C-828645F90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392D7-0FA3-4BB5-A985-18FD11823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54A25-302F-4417-BCAC-BC946960F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6CCD0-8AE7-4A90-8732-44C3CD302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D6B40-27A0-4C34-B6C4-7F8B1A676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73C41-9470-4AE9-A30B-EE12D20D7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20" name="Freeform 122"/>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 name="Freeform 123"/>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2" name="Freeform 124"/>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Verdana"/>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EC89-4C3A-486A-BA39-EACE45C91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grpSp>
            <p:nvGrpSpPr>
              <p:cNvPr id="283" name="Group 120"/>
              <p:cNvGrpSpPr/>
              <p:nvPr/>
            </p:nvGrpSpPr>
            <p:grpSpPr>
              <a:xfrm>
                <a:off x="4728240" y="2141280"/>
                <a:ext cx="494640" cy="493560"/>
                <a:chOff x="4728240" y="2141280"/>
                <a:chExt cx="494640" cy="493560"/>
              </a:xfrm>
            </p:grpSpPr>
            <p:sp>
              <p:nvSpPr>
                <p:cNvPr id="284" name="Oval 121"/>
                <p:cNvSpPr/>
                <p:nvPr/>
              </p:nvSpPr>
              <p:spPr>
                <a:xfrm rot="2828400">
                  <a:off x="4743720" y="236772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85" name="Freeform 122"/>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6" name="Freeform 123"/>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7" name="Freeform 124"/>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Verdana"/>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FEF4-274A-4544-AB14-AACE6141415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Economic Systems</a:t>
            </a:r>
            <a:endParaRPr b="0" lang="en-US" sz="5100" spc="-1" strike="noStrike">
              <a:solidFill>
                <a:srgbClr val="c4c3aa"/>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F 30 – Unit 2 Economic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disadvantages</a:t>
            </a:r>
            <a:endParaRPr b="0" lang="en-US" sz="4400" spc="-1" strike="noStrike">
              <a:solidFill>
                <a:srgbClr val="c4c3aa"/>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sumer needs may not be me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ard work is not rewarded</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necessary decision-making bureaucracy delays decision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ttle flexibility to deal with day-to-day problem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d individual initiative goes unrewarded.</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 </a:t>
            </a:r>
            <a:endParaRPr b="0" lang="en-US" sz="4400" spc="-1" strike="noStrike">
              <a:solidFill>
                <a:srgbClr val="c4c3aa"/>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the 1990s, many countries, especially in Eastern Europe, moved from command economies toward market economies. What problems do you think they faced as they made this change? </a:t>
            </a:r>
            <a:endParaRPr b="0" lang="en-US" sz="3200" spc="-1" strike="noStrike">
              <a:solidFill>
                <a:srgbClr val="ffffff"/>
              </a:solidFill>
              <a:latin typeface="Verdana"/>
            </a:endParaRPr>
          </a:p>
        </p:txBody>
      </p:sp>
      <p:sp>
        <p:nvSpPr>
          <p:cNvPr id="353" name="Text Box 5"/>
          <p:cNvSpPr/>
          <p:nvPr/>
        </p:nvSpPr>
        <p:spPr>
          <a:xfrm>
            <a:off x="1523880" y="380880"/>
            <a:ext cx="5639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Question</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a:t>
            </a:r>
            <a:endParaRPr b="0" lang="en-US" sz="4400" spc="-1" strike="noStrike">
              <a:solidFill>
                <a:srgbClr val="c4c3aa"/>
              </a:solidFill>
              <a:latin typeface="Arial"/>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what ways are traditional and command economies alike? In what ways are they different?</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n both, production decisions are already made and individual initiative is discouraged. In traditional economies, the individual’s role is defined by customs, while in command economies, a central authority defines the individual’s rol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 </a:t>
            </a:r>
            <a:r>
              <a:rPr b="0" lang="en-US" sz="4400" spc="-1" strike="noStrike">
                <a:solidFill>
                  <a:srgbClr val="c4c3aa"/>
                </a:solidFill>
                <a:latin typeface="Arial"/>
              </a:rPr>
              <a:t>Market Economies</a:t>
            </a:r>
            <a:endParaRPr b="0" lang="en-US" sz="4400" spc="-1" strike="noStrike">
              <a:solidFill>
                <a:srgbClr val="c4c3aa"/>
              </a:solidFill>
              <a:latin typeface="Arial"/>
            </a:endParaRPr>
          </a:p>
        </p:txBody>
      </p:sp>
      <p:sp>
        <p:nvSpPr>
          <p:cNvPr id="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a market economy, producers and consumers determine WHAT, HOW, and FOR WHOM to produce. In each market transaction, the consumer’s dollar acts like a “vote,”. </a:t>
            </a:r>
            <a:endParaRPr b="0" lang="en-US" sz="3200" spc="-1" strike="noStrike">
              <a:solidFill>
                <a:srgbClr val="ffffff"/>
              </a:solidFill>
              <a:latin typeface="Verdana"/>
            </a:endParaRPr>
          </a:p>
        </p:txBody>
      </p:sp>
      <p:pic>
        <p:nvPicPr>
          <p:cNvPr id="358" name="Picture 4" descr=""/>
          <p:cNvPicPr/>
          <p:nvPr/>
        </p:nvPicPr>
        <p:blipFill>
          <a:blip r:embed="rId1"/>
          <a:stretch/>
        </p:blipFill>
        <p:spPr>
          <a:xfrm>
            <a:off x="0" y="4191120"/>
            <a:ext cx="914400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amples include Canada, the United States, Japan, South Korea, Singapore, and parts of Western Europe. </a:t>
            </a:r>
            <a:endParaRPr b="0" lang="en-US" sz="3200" spc="-1" strike="noStrike">
              <a:solidFill>
                <a:srgbClr val="ffffff"/>
              </a:solidFill>
              <a:latin typeface="Verdana"/>
            </a:endParaRPr>
          </a:p>
        </p:txBody>
      </p:sp>
      <p:pic>
        <p:nvPicPr>
          <p:cNvPr id="361" name="Picture 4" descr=""/>
          <p:cNvPicPr/>
          <p:nvPr/>
        </p:nvPicPr>
        <p:blipFill>
          <a:blip r:embed="rId1"/>
          <a:stretch/>
        </p:blipFill>
        <p:spPr>
          <a:xfrm>
            <a:off x="0" y="3657600"/>
            <a:ext cx="9144000" cy="32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0"/>
            <a:ext cx="9144000" cy="6858000"/>
          </a:xfrm>
          <a:prstGeom prst="rect">
            <a:avLst/>
          </a:prstGeom>
          <a:ln w="0">
            <a:noFill/>
          </a:ln>
        </p:spPr>
      </p:pic>
      <p:sp>
        <p:nvSpPr>
          <p:cNvPr id="36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advantages</a:t>
            </a:r>
            <a:endParaRPr b="0" lang="en-US" sz="4400" spc="-1" strike="noStrike">
              <a:solidFill>
                <a:srgbClr val="c4c3aa"/>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ability to adjust to change</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high degree of individual freedom </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mall degree of government involvement</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ability to have a voice in the economy</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variety of goods and services created</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high degree of consumer satisfac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Disadvantages</a:t>
            </a:r>
            <a:endParaRPr b="0" lang="en-US" sz="4400" spc="-1" strike="noStrike">
              <a:solidFill>
                <a:srgbClr val="c4c3aa"/>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the inability of the market to meet every person’s basic needs.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adequate job of providing some highly valued services such as justice, education, and health care.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gh level of personal uncertainty and the prospect of economic failur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FYI</a:t>
            </a:r>
            <a:endParaRPr b="0" lang="en-US" sz="4400" spc="-1" strike="noStrike">
              <a:solidFill>
                <a:srgbClr val="c4c3aa"/>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Canada, individuals usually make their own economic decisions. Sometimes, however, the government makes choices that override individual decisions. During World War II, for example, the government limited the production of certain goods to focus on the war efforts instea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Traditional Economies </a:t>
            </a:r>
            <a:endParaRPr b="0" lang="en-US" sz="4400" spc="-1" strike="noStrike">
              <a:solidFill>
                <a:srgbClr val="c4c3aa"/>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a traditional economy, roles and economic decisions are defined by custom.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amples include the central African Mbuti, the Australian Aborigines, and northern Canada’s Inuits.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pic>
        <p:nvPicPr>
          <p:cNvPr id="335"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Advantages</a:t>
            </a:r>
            <a:endParaRPr b="0" lang="en-US" sz="4400" spc="-1" strike="noStrike">
              <a:solidFill>
                <a:srgbClr val="c4c3aa"/>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dvantages of a traditional economy is that everyone knows which role to play and there is little uncertainty about WHAT, HOW, and FOR WHOM to produ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Disadvantages</a:t>
            </a:r>
            <a:endParaRPr b="0" lang="en-US" sz="4400" spc="-1" strike="noStrike">
              <a:solidFill>
                <a:srgbClr val="c4c3aa"/>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disadvantage of a traditional economy is the discouragement of new ideas and new ways of thinking. This leads to a lower standard of living than in other societies.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a:t>
            </a:r>
            <a:endParaRPr b="0" lang="en-US" sz="4400" spc="-1" strike="noStrike">
              <a:solidFill>
                <a:srgbClr val="c4c3aa"/>
              </a:solidFill>
              <a:latin typeface="Arial"/>
            </a:endParaRPr>
          </a:p>
        </p:txBody>
      </p:sp>
      <p:sp>
        <p:nvSpPr>
          <p:cNvPr id="3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would your life be different if you had grown up in a traditional economy?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ommand Economies </a:t>
            </a:r>
            <a:endParaRPr b="0" lang="en-US" sz="4400" spc="-1" strike="noStrike">
              <a:solidFill>
                <a:srgbClr val="c4c3aa"/>
              </a:solidFill>
              <a:latin typeface="Arial"/>
            </a:endParaRPr>
          </a:p>
        </p:txBody>
      </p:sp>
      <p:sp>
        <p:nvSpPr>
          <p:cNvPr id="3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a command economy, a central authority determines WHAT, HOW, and FOR WHOM to produce.</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mmand economies include North Korea, Cuba, the former Soviet Un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Advantages</a:t>
            </a:r>
            <a:endParaRPr b="0" lang="en-US" sz="4400" spc="-1" strike="noStrike">
              <a:solidFill>
                <a:srgbClr val="c4c3aa"/>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bility to drastically change direction in a relatively short period of time</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ny basic health and public services are available at little or no cos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4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48" name="Picture 8" descr="Image result for command economy"/>
          <p:cNvPicPr/>
          <p:nvPr/>
        </p:nvPicPr>
        <p:blipFill>
          <a:blip r:embed="rId1"/>
          <a:stretch/>
        </p:blipFill>
        <p:spPr>
          <a:xfrm>
            <a:off x="2023920" y="1057320"/>
            <a:ext cx="5096160" cy="50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01:17:53Z</dcterms:created>
  <dc:creator>Heather Morris</dc:creator>
  <dc:description/>
  <dc:language>en-US</dc:language>
  <cp:lastModifiedBy>Amy Mcfarlen</cp:lastModifiedBy>
  <dcterms:modified xsi:type="dcterms:W3CDTF">2016-09-26T22:26:36Z</dcterms:modified>
  <cp:revision>8</cp:revision>
  <dc:subject/>
  <dc:title>Economic Systems</dc:title>
</cp:coreProperties>
</file>